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DB8-1E49-45CF-87E8-8FC215F0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D7A-CEA9-4E05-BC0B-2EA22CA8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C20-9AE5-4FCD-BBDF-EE3C9BA3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84A-D660-4A46-BE83-EB149F3E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A347-6DC5-42CF-AB2D-396175CB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1187-0153-4EB8-93BF-A6B5722C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797F-5DBD-4C43-9684-7ED973E7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555E-03EE-4302-BC7D-EC3CC06B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D929-AF18-4303-B7DB-E5278C1F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C114-8C29-426E-B17C-51A8354F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4036-C2B0-4A85-83A8-632EC2D8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069-32B7-40B7-A82F-183B3C6A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A302-6BF4-40E5-914E-B1D65360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397A-FDA7-4AE0-BBB1-026BD7F1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EA62-281C-4670-BD79-A088D62F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4CBF-F9B1-4B94-9039-EEF0DACD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D714-F01E-47C3-B7F5-E4CDBF71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1E9-D70E-47C9-BE91-998B1A38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FDD-1D04-477B-AB6C-305840B6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D9A-2594-4A78-9C4D-320923B7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0D4-9D4D-4BE3-8CC4-063EE6A8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F5D-B5F3-4D3C-A5A8-A427B41E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72F-30C3-4671-AA59-FA4B763E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99D-B2B1-48A2-8F04-5C102BCF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4F26-D0D0-41EF-99D2-D06E710AAF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0894-6394-4C0A-8724-DE0A49B251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uxpaint.org/gallery/ingridv/numbers.pn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La clase de espanol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onika y Mich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 Famil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m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pap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herm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abuel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abuel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t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th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038480" y="4245120"/>
            <a:ext cx="37339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 es cuela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cion fis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a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Los trabajos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est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t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ci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19720" y="335268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umer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4114800"/>
            <a:ext cx="2286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28:04Z</dcterms:created>
  <dc:creator>WSFCS Workstation</dc:creator>
  <dc:description/>
  <dc:language>en-US</dc:language>
  <cp:lastModifiedBy>WSFCS Workstation</cp:lastModifiedBy>
  <dcterms:modified xsi:type="dcterms:W3CDTF">2010-04-28T18:55:03Z</dcterms:modified>
  <cp:revision>3</cp:revision>
  <dc:subject/>
  <dc:title>La clase de espanol</dc:title>
</cp:coreProperties>
</file>